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360" y="-7391880"/>
            <a:ext cx="360" cy="345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-351000"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7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680" y="4680"/>
            <a:ext cx="32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4FE-2FAC-46F2-9B3A-EBC2C7A4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876-D24E-4DEC-9710-A70CF419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B57-DDF1-4E5D-B31D-F630D4F0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43C-118B-4017-8D60-FC007C88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033-7871-4C19-A92C-F690386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2F0-7F8B-4D5F-AE10-1DE6C4A0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B88-EE5F-40CC-831B-7A38A44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BAC-4CA8-4B18-959F-479AE7D1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0CA-2A09-4877-A474-9FFB150B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DF3-4D4B-441C-A8B8-7B65654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DFF-A65A-4CBD-B233-442B5D39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965-F880-4BEF-9147-840F780B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DCCE-08A6-4651-9AD5-4DEDA5BB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6D6D-9ABD-434E-A67D-50418A0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CFD7-44B2-4952-8032-B78F6C6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5BAD-DD20-4A60-B6DE-2F23977B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FC6F-062A-477C-A3B4-1B2FA0A8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E0DD-01D0-4706-AAC9-8E26C9C0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2C33-AC6C-449B-A7A7-96E777B6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E93F-67F8-4858-80B8-C5EAB61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C1EC-B70A-4CE2-A5BF-8DBA89A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B41B-96C2-4D27-A5E4-49BD78FE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8856-9A14-4B73-8D78-DF7D4F99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C1D6-2A0A-4BCF-826C-4CF5910A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04800"/>
            <a:ext cx="8599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6240"/>
            <a:ext cx="8409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1720" indent="-42408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5900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7720" indent="-42696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F6C872-5943-42DB-80FB-4D0D5941A9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800"/>
            <a:ext cx="87663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0" y="2048040"/>
            <a:ext cx="612720" cy="551160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600"/>
              <a:gd name="textAreaBottom" fmla="*/ 5511240 h 5511600"/>
            </a:gdLst>
            <a:ahLst/>
            <a:rect l="textAreaLeft" t="textAreaTop" r="textAreaRight" b="textAreaBottom"/>
            <a:pathLst>
              <a:path w="21600" h="194197">
                <a:moveTo>
                  <a:pt x="55" y="0"/>
                </a:moveTo>
                <a:arcTo wR="55" hR="55" stAng="16200000" swAng="-5400000"/>
                <a:lnTo>
                  <a:pt x="0" y="194142"/>
                </a:lnTo>
                <a:arcTo wR="55" hR="55" stAng="10800000" swAng="-5400000"/>
                <a:lnTo>
                  <a:pt x="21545" y="194197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1905120"/>
            <a:ext cx="10080720" cy="196560"/>
          </a:xfrm>
          <a:prstGeom prst="roundRect">
            <a:avLst>
              <a:gd name="adj" fmla="val 80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33624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3443040" y="6887880"/>
            <a:ext cx="318132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772776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63EFA3-9049-4D43-A0A4-CF1F051F74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360" y="392040"/>
            <a:ext cx="907272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Задача №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</a:t>
            </a: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 (устно)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По первым буквам нарисованных предметов прочти имя геро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181400" y="3959280"/>
            <a:ext cx="211932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74760" y="3419640"/>
            <a:ext cx="1425600" cy="143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347840" y="4635360"/>
            <a:ext cx="1352520" cy="13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2519280" y="3600360"/>
            <a:ext cx="1800360" cy="1209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5940360" y="301464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7053120" y="4140360"/>
            <a:ext cx="1408320" cy="1260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>
            <a:off x="8280360" y="3240000"/>
            <a:ext cx="1081080" cy="10810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Задача №</a:t>
            </a:r>
            <a:r>
              <a:rPr b="0" lang="ru-RU" sz="4400" spc="-1" strike="noStrike">
                <a:solidFill>
                  <a:srgbClr val="ff9966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360" y="1901880"/>
            <a:ext cx="933912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А)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устно) По первым буквам написанных слов прочтите новое слово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КОТ, РЫБА, ОКУНЬ, ЛЕС, ИГЛА, КОЗ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Б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в тетради)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Таким же способом закодируйте своё имя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720360"/>
            <a:ext cx="9072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Задача №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3</a:t>
            </a: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920000" cy="55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03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Раскодировать сообщени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(11,1), (12,1), (5,2), (3,1), (6,3), (10,1), (12,1), (2,2), (1,3), (2,3), (5,1), (4,2), (1,3), (4,2), (6,1), (12,1), (3,2), (12,1), (10,3), (4,1), (6,2), (5,1), (2,2), (3,1), (1,3), (9,2), (10,3), (6,3), (11,3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Уч. стр. 30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539640" y="539640"/>
            <a:ext cx="900108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26960" indent="-322200" algn="ctr">
              <a:lnSpc>
                <a:spcPct val="93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Пр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де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оисходит обработка информации связанная с изменением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формы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едставления информации, а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не содержания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1"/>
          <p:cNvSpPr txBox="1"/>
          <p:nvPr/>
        </p:nvSpPr>
        <p:spPr>
          <a:xfrm>
            <a:off x="595440" y="922320"/>
            <a:ext cx="9090000" cy="50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 формы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едставления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форм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1618920"/>
            <a:ext cx="907236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Систематизировать информацию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7200"/>
            </a:b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что это знач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vidia</cp:lastModifiedBy>
  <dcterms:modified xsi:type="dcterms:W3CDTF">2011-11-07T13:06:58Z</dcterms:modified>
  <cp:revision>25</cp:revision>
  <dc:subject/>
  <dc:title>Слайд 1</dc:title>
</cp:coreProperties>
</file>